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492280" y="1143000"/>
            <a:ext cx="4159440" cy="40212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0" y="5765760"/>
            <a:ext cx="9144000" cy="1092240"/>
            <a:chOff x="0" y="5765760"/>
            <a:chExt cx="9144000" cy="1092240"/>
          </a:xfrm>
        </p:grpSpPr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0" y="5765760"/>
              <a:ext cx="914400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4"/>
            <a:srcRect l="0" t="11091" r="0" b="12710"/>
            <a:stretch/>
          </p:blipFill>
          <p:spPr>
            <a:xfrm>
              <a:off x="7162920" y="6365880"/>
              <a:ext cx="1904760" cy="41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37440" y="6308640"/>
            <a:ext cx="22053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4000" bIns="54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BenQ Siemens</a:t>
            </a:r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Jerry</a:t>
            </a:r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 Project Stat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Monika Reiß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Page: </a:t>
            </a:r>
            <a:fld id="{56561E41-483A-437F-8ABB-0B27DE258592}" type="slidenum">
              <a:rPr b="0" lang="en-A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; 24/01/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65080" y="6597720"/>
            <a:ext cx="247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dafone Group – strictly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492280" y="1143000"/>
            <a:ext cx="4159440" cy="4021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5765760"/>
            <a:ext cx="9144000" cy="1092240"/>
            <a:chOff x="0" y="5765760"/>
            <a:chExt cx="9144000" cy="109224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5765760"/>
              <a:ext cx="914400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rcRect l="0" t="11091" r="0" b="12710"/>
            <a:stretch/>
          </p:blipFill>
          <p:spPr>
            <a:xfrm>
              <a:off x="7162920" y="6365880"/>
              <a:ext cx="1904760" cy="415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BenQ Siemens Jerry –Org Ch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1123920"/>
            <a:ext cx="151128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A Jie G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51280" y="549360"/>
            <a:ext cx="151128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PM Kheng W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84360" y="1989000"/>
            <a:ext cx="1511280" cy="28764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T Arjen Bro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1989000"/>
            <a:ext cx="1511280" cy="28764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HW Lars B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1989000"/>
            <a:ext cx="1511280" cy="28764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T Xin Juan So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48360" y="2351160"/>
            <a:ext cx="151128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948360" y="2782800"/>
            <a:ext cx="151128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CM/IM/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48360" y="3214800"/>
            <a:ext cx="151128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48360" y="3646440"/>
            <a:ext cx="151128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48360" y="4078440"/>
            <a:ext cx="151128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48360" y="4510080"/>
            <a:ext cx="151128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 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48360" y="4943520"/>
            <a:ext cx="151128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48360" y="5302080"/>
            <a:ext cx="1511280" cy="28764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 H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11280" y="1844640"/>
            <a:ext cx="338472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1844640"/>
            <a:ext cx="273708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1844640"/>
            <a:ext cx="2017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84360" y="2421000"/>
            <a:ext cx="180036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SW Yang Yong Qi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2852640"/>
            <a:ext cx="180000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3284640"/>
            <a:ext cx="180000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4870440"/>
            <a:ext cx="180000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rd Party: SISL Ind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1989000"/>
            <a:ext cx="1511280" cy="28764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PM Zhang Shu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716280"/>
            <a:ext cx="180000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ystem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86800" y="1482840"/>
            <a:ext cx="23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e: Beijing / Software / 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60080" y="1463760"/>
            <a:ext cx="256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e: Aarlborg HW/ 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3520" y="1268280"/>
            <a:ext cx="2027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e: Beijing/Shanghai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siness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4149720"/>
            <a:ext cx="180000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2852640"/>
            <a:ext cx="180036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CM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3213000"/>
            <a:ext cx="180036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ssory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3573360"/>
            <a:ext cx="180036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n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3932280"/>
            <a:ext cx="180036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ustomer 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4292640"/>
            <a:ext cx="180036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pplication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4653000"/>
            <a:ext cx="180036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rategy Proc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5013360"/>
            <a:ext cx="180036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5372280"/>
            <a:ext cx="180036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09:50:07Z</dcterms:created>
  <dc:creator/>
  <dc:description>Terminal Programme Management 30.11.2004</dc:description>
  <dc:language>en-US</dc:language>
  <cp:lastModifiedBy>bartlt</cp:lastModifiedBy>
  <dcterms:modified xsi:type="dcterms:W3CDTF">2006-02-21T14:26:38Z</dcterms:modified>
  <cp:revision>1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93707033</vt:r8>
  </property>
  <property fmtid="{D5CDD505-2E9C-101B-9397-08002B2CF9AE}" pid="3" name="_AuthorEmail">
    <vt:lpwstr>Thomas.Bartl@BenQ.com</vt:lpwstr>
  </property>
  <property fmtid="{D5CDD505-2E9C-101B-9397-08002B2CF9AE}" pid="4" name="_AuthorEmailDisplayName">
    <vt:lpwstr>Thomas Bartl</vt:lpwstr>
  </property>
  <property fmtid="{D5CDD505-2E9C-101B-9397-08002B2CF9AE}" pid="5" name="_EmailSubject">
    <vt:lpwstr>060221_BenQ Siemens Jerry - Org Chart.ppt</vt:lpwstr>
  </property>
  <property fmtid="{D5CDD505-2E9C-101B-9397-08002B2CF9AE}" pid="6" name="_NewReviewCycle">
    <vt:lpwstr/>
  </property>
  <property fmtid="{D5CDD505-2E9C-101B-9397-08002B2CF9AE}" pid="7" name="_PreviousAdHocReviewCycleID">
    <vt:r8>1688168020</vt:r8>
  </property>
</Properties>
</file>